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8E5C-C682-44CF-9953-B816FBDB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18A2-6234-494E-B0F0-F9F6AC93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57D3-8603-41AD-BA70-19F4A6EB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885-F925-4061-B8B9-E12B0D8E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F83D-46DF-4B5F-8B21-2A3C5428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22BA-7FFF-4C60-9148-041B93CC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68BC-83F3-4DA5-952C-2642D831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8A08-DEB5-4E52-ABD9-E4FF219E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189E-123E-41C4-813A-B86167BB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E40B-1083-4FB3-9502-2EB265E0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C551-A7DB-4294-AF29-BEABA924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A77C-90F6-4AAC-8D2E-685DABB6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E5F6-B85C-4C3A-9314-FBB80578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7839-9938-4163-9EB0-29D45E55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502E-3738-4DB3-AFA0-8727C0ED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8388-A42C-4346-840F-3FF61414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2D48-5423-4105-80E9-30C7CA57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5B9B2-9E69-40E2-ABE6-63078CA5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84743-5BFF-4C31-846C-BDC10F76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2A2F9-E862-454D-8E3E-36B5019D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90925-CD49-40E7-9099-525B93CF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AF909-F5C2-478D-886F-B3C51849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9C0D-E697-4D41-B5FB-A954E021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5B32C-E6DF-4087-9896-6FC905CA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AE243-3C7E-463B-9CF9-42399F46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6202F-38DF-4047-AE79-CADA5D35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263EC-D46D-440D-99A3-16F07F84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2D1FA-1A24-4CBB-AEA2-F340CFD0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0D002-0148-4A0F-AC64-3B609EAA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F5882-FE66-48DC-915D-29759114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90D63-A323-4D73-85B5-E6AB19BC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33EC3-ACCF-4285-BD5C-423F3E8F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FB449-20ED-491E-BA4A-655FE773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A370-1C3C-4375-A8AB-526E7221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8014A-BF61-4078-87ED-D8741676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5CB62-3A55-4A7D-B284-77474562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4AEFC-0643-46E2-9215-AB2BAE4D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A8EA5-1CE9-4FE9-875A-7142EB0C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E2DB6-11CB-4A95-B1A3-E8DD4583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BCFF7-B2C9-47FE-AEC9-974D6547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D907A-0B78-455C-921D-A60E985A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2221F-7D06-4BFE-AAC5-F8932800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1DF70-451A-425A-96B1-DBCE3DB2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FB4-E812-4689-BAD5-4C2C6A1F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7B36-B399-40E5-A3AF-7EAAD974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C3CF-4F3E-46DD-8FCC-7DB26F36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7C23-1C48-4B54-9739-FCF1510E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0C43-9D87-45B0-8162-98E680D7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Line 3"/>
            <p:cNvSpPr/>
            <p:nvPr/>
          </p:nvSpPr>
          <p:spPr>
            <a:xfrm>
              <a:off x="0" y="36684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0" y="4525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5"/>
            <p:cNvSpPr/>
            <p:nvPr/>
          </p:nvSpPr>
          <p:spPr>
            <a:xfrm>
              <a:off x="0" y="630540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Line 6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787D-1CF9-4815-8F49-8194EEF2B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73"/>
          <p:cNvGrpSpPr/>
          <p:nvPr/>
        </p:nvGrpSpPr>
        <p:grpSpPr>
          <a:xfrm>
            <a:off x="-56160" y="-25200"/>
            <a:ext cx="9200160" cy="2082600"/>
            <a:chOff x="-56160" y="-25200"/>
            <a:chExt cx="9200160" cy="2082600"/>
          </a:xfrm>
        </p:grpSpPr>
        <p:grpSp>
          <p:nvGrpSpPr>
            <p:cNvPr id="48" name="Group 69"/>
            <p:cNvGrpSpPr/>
            <p:nvPr/>
          </p:nvGrpSpPr>
          <p:grpSpPr>
            <a:xfrm>
              <a:off x="-56160" y="-25200"/>
              <a:ext cx="2832840" cy="1098000"/>
              <a:chOff x="-56160" y="-25200"/>
              <a:chExt cx="2832840" cy="1098000"/>
            </a:xfrm>
          </p:grpSpPr>
          <p:sp>
            <p:nvSpPr>
              <p:cNvPr id="49" name="Arc 64"/>
              <p:cNvSpPr/>
              <p:nvPr/>
            </p:nvSpPr>
            <p:spPr>
              <a:xfrm flipV="1" rot="459000">
                <a:off x="154080" y="-2880"/>
                <a:ext cx="108000" cy="87480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Arc 9"/>
              <p:cNvSpPr/>
              <p:nvPr/>
            </p:nvSpPr>
            <p:spPr>
              <a:xfrm flipV="1" rot="19293000">
                <a:off x="304200" y="-720"/>
                <a:ext cx="108000" cy="53352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Arc 10"/>
              <p:cNvSpPr/>
              <p:nvPr/>
            </p:nvSpPr>
            <p:spPr>
              <a:xfrm flipV="1" rot="19635600">
                <a:off x="533520" y="-31320"/>
                <a:ext cx="108000" cy="91440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Arc 11"/>
              <p:cNvSpPr/>
              <p:nvPr/>
            </p:nvSpPr>
            <p:spPr>
              <a:xfrm flipV="1" rot="20128800">
                <a:off x="304200" y="0"/>
                <a:ext cx="108000" cy="68580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Arc 12"/>
              <p:cNvSpPr/>
              <p:nvPr/>
            </p:nvSpPr>
            <p:spPr>
              <a:xfrm flipV="1" rot="19635600">
                <a:off x="609480" y="0"/>
                <a:ext cx="87120" cy="72864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Arc 13"/>
              <p:cNvSpPr/>
              <p:nvPr/>
            </p:nvSpPr>
            <p:spPr>
              <a:xfrm flipV="1" rot="19635600">
                <a:off x="914040" y="0"/>
                <a:ext cx="90360" cy="576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Arc 14"/>
              <p:cNvSpPr/>
              <p:nvPr/>
            </p:nvSpPr>
            <p:spPr>
              <a:xfrm flipV="1" rot="19635600">
                <a:off x="1167840" y="-63000"/>
                <a:ext cx="74520" cy="936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Arc 15"/>
              <p:cNvSpPr/>
              <p:nvPr/>
            </p:nvSpPr>
            <p:spPr>
              <a:xfrm flipV="1" rot="19779600">
                <a:off x="825840" y="-15120"/>
                <a:ext cx="114480" cy="92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Arc 16"/>
              <p:cNvSpPr/>
              <p:nvPr/>
            </p:nvSpPr>
            <p:spPr>
              <a:xfrm flipV="1" rot="19084800">
                <a:off x="1476000" y="-96840"/>
                <a:ext cx="100080" cy="979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Arc 17"/>
              <p:cNvSpPr/>
              <p:nvPr/>
            </p:nvSpPr>
            <p:spPr>
              <a:xfrm flipV="1" rot="1431000">
                <a:off x="1323720" y="-48240"/>
                <a:ext cx="91800" cy="96840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Arc 18"/>
              <p:cNvSpPr/>
              <p:nvPr/>
            </p:nvSpPr>
            <p:spPr>
              <a:xfrm flipV="1" rot="459000">
                <a:off x="1312560" y="-6120"/>
                <a:ext cx="100080" cy="75888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Arc 19"/>
              <p:cNvSpPr/>
              <p:nvPr/>
            </p:nvSpPr>
            <p:spPr>
              <a:xfrm flipV="1" rot="18784200">
                <a:off x="1793880" y="-108720"/>
                <a:ext cx="85680" cy="90504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Arc 20"/>
              <p:cNvSpPr/>
              <p:nvPr/>
            </p:nvSpPr>
            <p:spPr>
              <a:xfrm flipV="1" rot="19015800">
                <a:off x="1980720" y="-52920"/>
                <a:ext cx="98640" cy="64152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Arc 22"/>
              <p:cNvSpPr/>
              <p:nvPr/>
            </p:nvSpPr>
            <p:spPr>
              <a:xfrm flipV="1" rot="19962600">
                <a:off x="2341800" y="-9720"/>
                <a:ext cx="74880" cy="47808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Arc 23"/>
              <p:cNvSpPr/>
              <p:nvPr/>
            </p:nvSpPr>
            <p:spPr>
              <a:xfrm flipV="1" rot="19369200">
                <a:off x="2530080" y="-6480"/>
                <a:ext cx="106560" cy="49860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Arc 24"/>
              <p:cNvSpPr/>
              <p:nvPr/>
            </p:nvSpPr>
            <p:spPr>
              <a:xfrm flipV="1" rot="19964400">
                <a:off x="229320" y="-32400"/>
                <a:ext cx="108000" cy="114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Arc 26"/>
              <p:cNvSpPr/>
              <p:nvPr/>
            </p:nvSpPr>
            <p:spPr>
              <a:xfrm flipV="1" rot="20128800">
                <a:off x="1098720" y="-720"/>
                <a:ext cx="88560" cy="36360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Arc 21"/>
              <p:cNvSpPr/>
              <p:nvPr/>
            </p:nvSpPr>
            <p:spPr>
              <a:xfrm flipV="1" rot="17749800">
                <a:off x="2284200" y="-160200"/>
                <a:ext cx="98280" cy="73620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Arc 67"/>
              <p:cNvSpPr/>
              <p:nvPr/>
            </p:nvSpPr>
            <p:spPr>
              <a:xfrm flipV="1" rot="20418000">
                <a:off x="82080" y="227880"/>
                <a:ext cx="108000" cy="83808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60"/>
            <p:cNvGrpSpPr/>
            <p:nvPr/>
          </p:nvGrpSpPr>
          <p:grpSpPr>
            <a:xfrm>
              <a:off x="603360" y="304920"/>
              <a:ext cx="768240" cy="1752480"/>
              <a:chOff x="603360" y="304920"/>
              <a:chExt cx="768240" cy="1752480"/>
            </a:xfrm>
          </p:grpSpPr>
          <p:sp>
            <p:nvSpPr>
              <p:cNvPr id="69" name="Rectangle 61"/>
              <p:cNvSpPr/>
              <p:nvPr/>
            </p:nvSpPr>
            <p:spPr>
              <a:xfrm rot="16200000">
                <a:off x="97920" y="1169280"/>
                <a:ext cx="1752480" cy="237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333333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Rectangle 62"/>
              <p:cNvSpPr/>
              <p:nvPr/>
            </p:nvSpPr>
            <p:spPr>
              <a:xfrm rot="5400000">
                <a:off x="974520" y="798480"/>
                <a:ext cx="25560" cy="768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333333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63"/>
              <p:cNvSpPr/>
              <p:nvPr/>
            </p:nvSpPr>
            <p:spPr>
              <a:xfrm rot="16200000">
                <a:off x="660600" y="873000"/>
                <a:ext cx="623880" cy="62388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72" name="Picture 59" descr="Safnavvd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7c16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808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58E2-AAE4-4A93-AB20-36580C5EBB1F}" type="slidenum">
              <a:rPr b="0" lang="en-US" sz="1400" spc="-1" strike="noStrike">
                <a:solidFill>
                  <a:srgbClr val="ff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7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15" name="Rectangle 2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Line 3"/>
            <p:cNvSpPr/>
            <p:nvPr/>
          </p:nvSpPr>
          <p:spPr>
            <a:xfrm>
              <a:off x="0" y="366840"/>
              <a:ext cx="914400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Line 4"/>
            <p:cNvSpPr/>
            <p:nvPr/>
          </p:nvSpPr>
          <p:spPr>
            <a:xfrm>
              <a:off x="0" y="45252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5"/>
            <p:cNvSpPr/>
            <p:nvPr/>
          </p:nvSpPr>
          <p:spPr>
            <a:xfrm>
              <a:off x="0" y="6305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6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87F0-57F7-4922-934E-17D1748BE8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64"/>
          <p:cNvGrpSpPr/>
          <p:nvPr/>
        </p:nvGrpSpPr>
        <p:grpSpPr>
          <a:xfrm>
            <a:off x="0" y="2971800"/>
            <a:ext cx="9144000" cy="1298160"/>
            <a:chOff x="0" y="2971800"/>
            <a:chExt cx="9144000" cy="1298160"/>
          </a:xfrm>
        </p:grpSpPr>
        <p:grpSp>
          <p:nvGrpSpPr>
            <p:cNvPr id="162" name="Group 59"/>
            <p:cNvGrpSpPr/>
            <p:nvPr/>
          </p:nvGrpSpPr>
          <p:grpSpPr>
            <a:xfrm>
              <a:off x="1823760" y="3120120"/>
              <a:ext cx="5467680" cy="1149840"/>
              <a:chOff x="1823760" y="3120120"/>
              <a:chExt cx="5467680" cy="1149840"/>
            </a:xfrm>
          </p:grpSpPr>
          <p:sp>
            <p:nvSpPr>
              <p:cNvPr id="163" name="Arc 36"/>
              <p:cNvSpPr/>
              <p:nvPr/>
            </p:nvSpPr>
            <p:spPr>
              <a:xfrm flipH="1" flipV="1" rot="2307000">
                <a:off x="4215600" y="3141360"/>
                <a:ext cx="108000" cy="53352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4" name="Group 3"/>
              <p:cNvGrpSpPr/>
              <p:nvPr/>
            </p:nvGrpSpPr>
            <p:grpSpPr>
              <a:xfrm>
                <a:off x="4458960" y="3137400"/>
                <a:ext cx="2832480" cy="1096920"/>
                <a:chOff x="4458960" y="3137400"/>
                <a:chExt cx="2832480" cy="1096920"/>
              </a:xfrm>
            </p:grpSpPr>
            <p:sp>
              <p:nvSpPr>
                <p:cNvPr id="165" name="Arc 4"/>
                <p:cNvSpPr/>
                <p:nvPr/>
              </p:nvSpPr>
              <p:spPr>
                <a:xfrm flipV="1" rot="459000">
                  <a:off x="4668840" y="3158280"/>
                  <a:ext cx="108000" cy="87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Arc 5"/>
                <p:cNvSpPr/>
                <p:nvPr/>
              </p:nvSpPr>
              <p:spPr>
                <a:xfrm flipV="1" rot="19293000">
                  <a:off x="4819320" y="3161880"/>
                  <a:ext cx="108000" cy="53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Arc 6"/>
                <p:cNvSpPr/>
                <p:nvPr/>
              </p:nvSpPr>
              <p:spPr>
                <a:xfrm flipV="1" rot="19635600">
                  <a:off x="5047920" y="3130200"/>
                  <a:ext cx="108000" cy="914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Arc 7"/>
                <p:cNvSpPr/>
                <p:nvPr/>
              </p:nvSpPr>
              <p:spPr>
                <a:xfrm flipV="1" rot="20128800">
                  <a:off x="4819320" y="3162240"/>
                  <a:ext cx="108000" cy="685440"/>
                </a:xfrm>
                <a:prstGeom prst="pi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Arc 8"/>
                <p:cNvSpPr/>
                <p:nvPr/>
              </p:nvSpPr>
              <p:spPr>
                <a:xfrm flipV="1" rot="19635600">
                  <a:off x="5124240" y="3161160"/>
                  <a:ext cx="87120" cy="728280"/>
                </a:xfrm>
                <a:prstGeom prst="pi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Arc 9"/>
                <p:cNvSpPr/>
                <p:nvPr/>
              </p:nvSpPr>
              <p:spPr>
                <a:xfrm flipV="1" rot="19635600">
                  <a:off x="5428800" y="3161880"/>
                  <a:ext cx="90360" cy="576000"/>
                </a:xfrm>
                <a:prstGeom prst="pi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Arc 10"/>
                <p:cNvSpPr/>
                <p:nvPr/>
              </p:nvSpPr>
              <p:spPr>
                <a:xfrm flipV="1" rot="19635600">
                  <a:off x="5682600" y="3098880"/>
                  <a:ext cx="74520" cy="936000"/>
                </a:xfrm>
                <a:prstGeom prst="pi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Arc 11"/>
                <p:cNvSpPr/>
                <p:nvPr/>
              </p:nvSpPr>
              <p:spPr>
                <a:xfrm flipV="1" rot="19779600">
                  <a:off x="5340960" y="3146040"/>
                  <a:ext cx="114480" cy="925200"/>
                </a:xfrm>
                <a:prstGeom prst="pi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Arc 12"/>
                <p:cNvSpPr/>
                <p:nvPr/>
              </p:nvSpPr>
              <p:spPr>
                <a:xfrm flipV="1" rot="19084800">
                  <a:off x="5990760" y="3065400"/>
                  <a:ext cx="100080" cy="979200"/>
                </a:xfrm>
                <a:prstGeom prst="pi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Arc 13"/>
                <p:cNvSpPr/>
                <p:nvPr/>
              </p:nvSpPr>
              <p:spPr>
                <a:xfrm flipV="1" rot="1431000">
                  <a:off x="5838480" y="3114360"/>
                  <a:ext cx="91800" cy="968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Arc 14"/>
                <p:cNvSpPr/>
                <p:nvPr/>
              </p:nvSpPr>
              <p:spPr>
                <a:xfrm flipV="1" rot="459000">
                  <a:off x="5827320" y="3155040"/>
                  <a:ext cx="100080" cy="758520"/>
                </a:xfrm>
                <a:prstGeom prst="pi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Arc 15"/>
                <p:cNvSpPr/>
                <p:nvPr/>
              </p:nvSpPr>
              <p:spPr>
                <a:xfrm flipV="1" rot="18784200">
                  <a:off x="6309000" y="3053160"/>
                  <a:ext cx="85320" cy="90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Arc 16"/>
                <p:cNvSpPr/>
                <p:nvPr/>
              </p:nvSpPr>
              <p:spPr>
                <a:xfrm flipV="1" rot="19015800">
                  <a:off x="6495480" y="3109320"/>
                  <a:ext cx="98640" cy="641160"/>
                </a:xfrm>
                <a:prstGeom prst="pi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Arc 17"/>
                <p:cNvSpPr/>
                <p:nvPr/>
              </p:nvSpPr>
              <p:spPr>
                <a:xfrm flipV="1" rot="19962600">
                  <a:off x="6856560" y="3152160"/>
                  <a:ext cx="74880" cy="47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Arc 18"/>
                <p:cNvSpPr/>
                <p:nvPr/>
              </p:nvSpPr>
              <p:spPr>
                <a:xfrm flipV="1" rot="19369200">
                  <a:off x="7044840" y="3155400"/>
                  <a:ext cx="106560" cy="498600"/>
                </a:xfrm>
                <a:prstGeom prst="pi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Arc 19"/>
                <p:cNvSpPr/>
                <p:nvPr/>
              </p:nvSpPr>
              <p:spPr>
                <a:xfrm flipV="1" rot="19964400">
                  <a:off x="4744080" y="3129480"/>
                  <a:ext cx="108000" cy="1143000"/>
                </a:xfrm>
                <a:prstGeom prst="pi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Arc 20"/>
                <p:cNvSpPr/>
                <p:nvPr/>
              </p:nvSpPr>
              <p:spPr>
                <a:xfrm flipV="1" rot="20128800">
                  <a:off x="5613120" y="3161880"/>
                  <a:ext cx="88560" cy="363240"/>
                </a:xfrm>
                <a:prstGeom prst="pi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Arc 21"/>
                <p:cNvSpPr/>
                <p:nvPr/>
              </p:nvSpPr>
              <p:spPr>
                <a:xfrm flipV="1" rot="17749800">
                  <a:off x="6798960" y="3000600"/>
                  <a:ext cx="97920" cy="736920"/>
                </a:xfrm>
                <a:prstGeom prst="pi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Arc 22"/>
                <p:cNvSpPr/>
                <p:nvPr/>
              </p:nvSpPr>
              <p:spPr>
                <a:xfrm flipV="1" rot="20418000">
                  <a:off x="4596840" y="3390840"/>
                  <a:ext cx="108000" cy="83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Arc 35"/>
              <p:cNvSpPr/>
              <p:nvPr/>
            </p:nvSpPr>
            <p:spPr>
              <a:xfrm flipH="1" flipV="1" rot="21141000">
                <a:off x="4444200" y="3141720"/>
                <a:ext cx="108000" cy="87480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Arc 37"/>
              <p:cNvSpPr/>
              <p:nvPr/>
            </p:nvSpPr>
            <p:spPr>
              <a:xfrm flipH="1" flipV="1" rot="1964400">
                <a:off x="3989160" y="3112560"/>
                <a:ext cx="108000" cy="91440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Arc 38"/>
              <p:cNvSpPr/>
              <p:nvPr/>
            </p:nvSpPr>
            <p:spPr>
              <a:xfrm flipH="1" flipV="1" rot="20985600">
                <a:off x="4216680" y="3217320"/>
                <a:ext cx="108000" cy="68544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Arc 39"/>
              <p:cNvSpPr/>
              <p:nvPr/>
            </p:nvSpPr>
            <p:spPr>
              <a:xfrm flipH="1" flipV="1" rot="1964400">
                <a:off x="3933000" y="3144600"/>
                <a:ext cx="87120" cy="72864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Arc 40"/>
              <p:cNvSpPr/>
              <p:nvPr/>
            </p:nvSpPr>
            <p:spPr>
              <a:xfrm flipH="1" flipV="1" rot="1964400">
                <a:off x="3625560" y="3144600"/>
                <a:ext cx="90360" cy="576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Arc 41"/>
              <p:cNvSpPr/>
              <p:nvPr/>
            </p:nvSpPr>
            <p:spPr>
              <a:xfrm flipH="1" flipV="1" rot="1964400">
                <a:off x="3387240" y="3081240"/>
                <a:ext cx="74520" cy="93672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Arc 42"/>
              <p:cNvSpPr/>
              <p:nvPr/>
            </p:nvSpPr>
            <p:spPr>
              <a:xfrm flipH="1" flipV="1" rot="1820400">
                <a:off x="3688200" y="3129120"/>
                <a:ext cx="114120" cy="92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Arc 43"/>
              <p:cNvSpPr/>
              <p:nvPr/>
            </p:nvSpPr>
            <p:spPr>
              <a:xfrm flipH="1" flipV="1" rot="2515200">
                <a:off x="3023640" y="3047760"/>
                <a:ext cx="100080" cy="979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Arc 44"/>
              <p:cNvSpPr/>
              <p:nvPr/>
            </p:nvSpPr>
            <p:spPr>
              <a:xfrm flipH="1" flipV="1" rot="20169000">
                <a:off x="3183480" y="3097080"/>
                <a:ext cx="91800" cy="96804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Arc 45"/>
              <p:cNvSpPr/>
              <p:nvPr/>
            </p:nvSpPr>
            <p:spPr>
              <a:xfrm flipH="1" flipV="1" rot="21141000">
                <a:off x="3187080" y="3138120"/>
                <a:ext cx="99720" cy="75852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Arc 46"/>
              <p:cNvSpPr/>
              <p:nvPr/>
            </p:nvSpPr>
            <p:spPr>
              <a:xfrm flipH="1" flipV="1" rot="3416400">
                <a:off x="2719800" y="3037680"/>
                <a:ext cx="85680" cy="90504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Arc 47"/>
              <p:cNvSpPr/>
              <p:nvPr/>
            </p:nvSpPr>
            <p:spPr>
              <a:xfrm flipH="1" flipV="1" rot="2584200">
                <a:off x="2520360" y="3092400"/>
                <a:ext cx="98640" cy="6411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Arc 48"/>
              <p:cNvSpPr/>
              <p:nvPr/>
            </p:nvSpPr>
            <p:spPr>
              <a:xfrm flipH="1" flipV="1" rot="1637400">
                <a:off x="2184120" y="3135600"/>
                <a:ext cx="74520" cy="47772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Arc 49"/>
              <p:cNvSpPr/>
              <p:nvPr/>
            </p:nvSpPr>
            <p:spPr>
              <a:xfrm flipH="1" flipV="1" rot="2230800">
                <a:off x="1963080" y="3138840"/>
                <a:ext cx="106200" cy="49824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Arc 50"/>
              <p:cNvSpPr/>
              <p:nvPr/>
            </p:nvSpPr>
            <p:spPr>
              <a:xfrm flipH="1" flipV="1" rot="20427000">
                <a:off x="4065120" y="3141360"/>
                <a:ext cx="108000" cy="114264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Arc 51"/>
              <p:cNvSpPr/>
              <p:nvPr/>
            </p:nvSpPr>
            <p:spPr>
              <a:xfrm flipH="1" flipV="1" rot="1471200">
                <a:off x="3442680" y="3143880"/>
                <a:ext cx="88920" cy="36360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rc 52"/>
              <p:cNvSpPr/>
              <p:nvPr/>
            </p:nvSpPr>
            <p:spPr>
              <a:xfrm flipH="1" flipV="1" rot="3400200">
                <a:off x="2248560" y="3050640"/>
                <a:ext cx="98640" cy="736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Arc 53"/>
              <p:cNvSpPr/>
              <p:nvPr/>
            </p:nvSpPr>
            <p:spPr>
              <a:xfrm flipH="1" flipV="1" rot="21582000">
                <a:off x="3758040" y="3173400"/>
                <a:ext cx="108000" cy="83808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02" name="Picture 27" descr="Safnavvd"/>
            <p:cNvPicPr/>
            <p:nvPr/>
          </p:nvPicPr>
          <p:blipFill>
            <a:blip r:embed="rId2"/>
            <a:stretch/>
          </p:blipFill>
          <p:spPr>
            <a:xfrm>
              <a:off x="0" y="2971800"/>
              <a:ext cx="9144000" cy="13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Group 65"/>
          <p:cNvGrpSpPr/>
          <p:nvPr/>
        </p:nvGrpSpPr>
        <p:grpSpPr>
          <a:xfrm>
            <a:off x="4218120" y="990720"/>
            <a:ext cx="768240" cy="1752480"/>
            <a:chOff x="4218120" y="990720"/>
            <a:chExt cx="768240" cy="1752480"/>
          </a:xfrm>
        </p:grpSpPr>
        <p:sp>
          <p:nvSpPr>
            <p:cNvPr id="204" name="Rectangle 66"/>
            <p:cNvSpPr/>
            <p:nvPr/>
          </p:nvSpPr>
          <p:spPr>
            <a:xfrm rot="16200000">
              <a:off x="3712680" y="1855080"/>
              <a:ext cx="1752480" cy="237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333333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Rectangle 67"/>
            <p:cNvSpPr/>
            <p:nvPr/>
          </p:nvSpPr>
          <p:spPr>
            <a:xfrm rot="5400000">
              <a:off x="4589280" y="1484280"/>
              <a:ext cx="25560" cy="768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333333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Oval 68"/>
            <p:cNvSpPr/>
            <p:nvPr/>
          </p:nvSpPr>
          <p:spPr>
            <a:xfrm rot="16200000">
              <a:off x="4275360" y="1558800"/>
              <a:ext cx="623880" cy="62388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7c16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808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B00D-4527-495F-A540-71012C069F3A}" type="slidenum">
              <a:rPr b="0" lang="ru-RU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00"/>
                </a:solidFill>
                <a:latin typeface="Arial"/>
              </a:rPr>
              <a:t>Однополые браки</a:t>
            </a:r>
            <a:endParaRPr b="0" i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-54000" y="0"/>
            <a:ext cx="919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-500040" y="-214200"/>
            <a:ext cx="10264680" cy="6500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-93600" y="0"/>
            <a:ext cx="9237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3:45:40Z</dcterms:created>
  <dc:creator>Янчик &amp; Мелочка</dc:creator>
  <dc:description/>
  <dc:language>en-US</dc:language>
  <cp:lastModifiedBy>Vlad</cp:lastModifiedBy>
  <dcterms:modified xsi:type="dcterms:W3CDTF">2012-04-15T11:18:44Z</dcterms:modified>
  <cp:revision>7</cp:revision>
  <dc:subject/>
  <dc:title>Слайд 1</dc:title>
</cp:coreProperties>
</file>